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996-683D-4C0C-983C-C1BEB363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8CF-923C-4495-AD0B-C5E47F69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87D-B1C3-4D95-86B7-05E8AA5B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E27-F89D-433C-A867-8EBDC521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A2E-9A3A-43F3-99E9-FE4BD8D4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ED0-2D51-4BBC-814C-DE0DF63A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BDD-3659-494B-8EA2-FAAD2FBC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741-16FF-47FB-9A3B-D3A6952E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678-88F1-4EA8-9ADA-62B66E7B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E97-C162-4994-9CEF-4539D63F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641-D239-4E8F-8B21-FBD1867E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506-36E4-490F-9C74-C3976505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3AC5-0588-49BB-82AD-5708FE971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hyperlink" Target="http://www.jogtheweb.com/" TargetMode="Externa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oornut"/>
              </a:rPr>
              <a:t>MSPP Web 2.0 To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47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ornut"/>
              </a:rPr>
              <a:t>Christine Voe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ornut"/>
              </a:rPr>
              <a:t>Calvert County Public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ornut"/>
              </a:rPr>
              <a:t>voelkerc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Poornut"/>
              </a:rPr>
              <a:t>calvertnet.k12.md.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rot="1992000">
            <a:off x="1485720" y="4000680"/>
            <a:ext cx="2666880" cy="19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176200">
            <a:off x="5181480" y="4038120"/>
            <a:ext cx="2667240" cy="19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nformatio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533520"/>
            <a:ext cx="259056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earning &amp;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676520"/>
            <a:ext cx="3200400" cy="304776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2.0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57150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65530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www.netvibes.com/storm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5840" y="1254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32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438280" y="4095720"/>
            <a:ext cx="42865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60199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titanpad.com/so38i0xY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rot="1992000">
            <a:off x="1485720" y="4000680"/>
            <a:ext cx="2666880" cy="19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76200">
            <a:off x="5181480" y="4038120"/>
            <a:ext cx="2667240" cy="19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nformatio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33520"/>
            <a:ext cx="259056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earning &amp;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76520"/>
            <a:ext cx="3200400" cy="304776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2.0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182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7180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2438640" cy="849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43000" y="2819520"/>
            <a:ext cx="2514600" cy="69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71800" y="3429000"/>
            <a:ext cx="2590920" cy="164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7086600" y="685800"/>
            <a:ext cx="1266840" cy="116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6172200" y="2971800"/>
            <a:ext cx="2286000" cy="1047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228600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43080"/>
            <a:ext cx="9144000" cy="4371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8120" y="58672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http://en.wiktionary.org/wiki/Web_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76960" cy="6746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6200000">
            <a:off x="2627640" y="-1864080"/>
            <a:ext cx="45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072800" y="4501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ode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95680"/>
            <a:ext cx="3046320" cy="41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91120" y="476280"/>
            <a:ext cx="4495680" cy="4810680"/>
          </a:xfrm>
          <a:prstGeom prst="wedgeEllipseCallout">
            <a:avLst>
              <a:gd name="adj1" fmla="val -84916"/>
              <a:gd name="adj2" fmla="val 45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’s students want to learn differently than in the past.  They want ways of learning that are meaningful to them, ways that make them see- immediately- that the time they are spending on their formal education is valuable, and ways that make good use of the technology they know is their birth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16959" b="0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8438" t="17713" r="6146" b="17713"/>
          <a:stretch/>
        </p:blipFill>
        <p:spPr>
          <a:xfrm>
            <a:off x="0" y="4829040"/>
            <a:ext cx="6829560" cy="2028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21082200">
            <a:off x="0" y="304920"/>
            <a:ext cx="3867120" cy="1314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676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jogtheweb.com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Keyword: MSP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5943600"/>
            <a:ext cx="1219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rot="1992000">
            <a:off x="1485720" y="4000680"/>
            <a:ext cx="2666880" cy="19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176200">
            <a:off x="5181480" y="4038120"/>
            <a:ext cx="2667240" cy="19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nformatio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533520"/>
            <a:ext cx="259056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earning &amp;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1676520"/>
            <a:ext cx="3200400" cy="304776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2.0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994280"/>
            <a:ext cx="1428840" cy="1863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05120" y="5943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allwisher.com/wall/msppc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rot="1992000">
            <a:off x="1485720" y="4000680"/>
            <a:ext cx="2666880" cy="19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176200">
            <a:off x="5181480" y="4038120"/>
            <a:ext cx="2667240" cy="19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nformatio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amp;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33520"/>
            <a:ext cx="259056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earning &amp;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1676520"/>
            <a:ext cx="3200400" cy="304776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alisto MT"/>
              </a:rPr>
              <a:t>2.0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21621" r="0" b="21621"/>
          <a:stretch/>
        </p:blipFill>
        <p:spPr>
          <a:xfrm>
            <a:off x="0" y="-609480"/>
            <a:ext cx="9144000" cy="3457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553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7:22:35Z</dcterms:created>
  <dc:creator>Christine Voelker</dc:creator>
  <dc:description/>
  <dc:language>en-US</dc:language>
  <cp:lastModifiedBy>Christine Voelker</cp:lastModifiedBy>
  <dcterms:modified xsi:type="dcterms:W3CDTF">2010-07-01T20:02:23Z</dcterms:modified>
  <cp:revision>8</cp:revision>
  <dc:subject/>
  <dc:title>MSPP Web 2.0 Tools</dc:title>
</cp:coreProperties>
</file>